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66D7-7EEC-46D2-B585-161E77194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A520-04D3-4F51-81FC-4E24957A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48E8-3511-436B-9811-38AB966CB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A586-B6AD-4174-86A8-0F992C55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A214-F6A5-4347-96B8-2DF816CDE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3D4D-7B83-491E-8CD9-96D45BA8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772E-C969-4907-812E-2691AD9DB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CC9B-95DB-4B35-AA82-CADF90CA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63E5-4CC3-45BA-A1F2-1FEA38ED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80C6-DDDA-4C07-9C95-76B6EBED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A697-EE2D-44BA-A0CD-CA574208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5012-AF55-4861-A641-ED13583E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5884-1AF9-4A21-ADD4-C87B90A895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rwick Area High Scho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fted Edu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lent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 United 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 and represent a country in a role play debate of contemporary world iss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t and guided research, written position papers, public speaking/debate, “diplomac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hops (fall) &amp; MUN Conference (spring) held at Bloomsburg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-curricular clu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a announcements, late fall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dyssey of the Mi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ve problem solving compet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K-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ember team, student developed           skit performance &amp; spontane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long-term problem)               - (short term proble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etition held in early M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-curri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roll team by Nov./D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4724280" y="2133720"/>
            <a:ext cx="3962520" cy="51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OOT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ifted Worksho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ced Placement Cou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academic rigor &amp; pacing in content areas and the opportunity for college cred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11, 12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lish (11 &amp; 12), Am. History, Sciences, Lat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motivated, responsible, independent learners, AP Ex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credit, weighted by 1.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application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acher recommendation / scre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 – enrollmen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al Enroll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roll in college course taken during the HS day – on campus, on-line, distance lear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11, 12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in college credit (6), discounted tu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BHS credit, weighted by1.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ch – enrollment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fted Education &amp; Talent Development at B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r. Bruce Guen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wick Area High Sch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om 4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59 – 6400 x314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7e3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e39"/>
                </a:solidFill>
                <a:latin typeface="Times New Roman"/>
              </a:rPr>
              <a:t>bguenther@berwicksd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ww.bhsgifted.wikispaces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Honors 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Independent Study Project (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4724280" y="2133720"/>
            <a:ext cx="3962520" cy="51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OOT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ifted Worksho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Honors Cour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academic rigor &amp; pacing in content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motivated, responsible, independent lear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lish, History, World Language, Math,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credit, weighted by 1.0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acher recommendation / scre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h – enrollmen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dependent Study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tor and teacher supported research in area of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 paper, log and formal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fills grad. project requirement for 2010 and 2011 only.  2012 &amp; 2013 have new requir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credit, weighted by1.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request and written propos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GIEP or early F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Times New Roman"/>
              </a:rPr>
              <a:t>Advanced Research in Medicine (AR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United Nations (MU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724280" y="2133720"/>
            <a:ext cx="3962520" cy="45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dyssey of the Mi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(OOT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ifted Worksho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7246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rtunity to interact with a professional &amp; experience their occupational set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tain a “log”, complete evaluation es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area of interest (see next slid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for cred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student/parent 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time of year including sum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ob Shadowing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pation of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08-2009 Job shad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esthesiology, Chiropractic, Culinary Arts, Dance, Dentistry, Elementary Education, Meteorology, Music Education, Pharmacy, Photography, Veterin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ced Research in Medic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entor and teacher supported, independent research within the medical field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ncl. Veterin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pen to grades 9,10,11,1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search paper, log and formal present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1 credit, weighted by 1.04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options for 1.01 or 1.06 als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y applic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ience teacher recommend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rc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r summer start)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ru Septemb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for fall sta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HS Gifted 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nors 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pendent Study Project (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b Shad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d Research in Medicine (AR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odel United Nations (MU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724280" y="2133720"/>
            <a:ext cx="3962520" cy="51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Odyssey of the Mi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(OOT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Gifted Worksho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dvanced Plac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ur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ual (Colleg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roll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21:30:46Z</dcterms:created>
  <dc:creator>Christine Guenther</dc:creator>
  <dc:description/>
  <dc:language>en-US</dc:language>
  <cp:lastModifiedBy>bguenther</cp:lastModifiedBy>
  <dcterms:modified xsi:type="dcterms:W3CDTF">2009-08-17T21:22:28Z</dcterms:modified>
  <cp:revision>22</cp:revision>
  <dc:subject/>
  <dc:title>Berwick Area High School</dc:title>
</cp:coreProperties>
</file>